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D399-91BF-4759-946C-84C697AB5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FC1E-03E4-44F2-99BE-C5CE1DE40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istapart.com/articles/previewofhtml5" TargetMode="External"/><Relationship Id="rId2" Type="http://schemas.openxmlformats.org/officeDocument/2006/relationships/hyperlink" Target="http://diveintohtml5.org" TargetMode="External"/><Relationship Id="rId3" Type="http://schemas.openxmlformats.org/officeDocument/2006/relationships/hyperlink" Target="http://diveintohtml5.org/forms.html" TargetMode="External"/><Relationship Id="rId4" Type="http://schemas.openxmlformats.org/officeDocument/2006/relationships/hyperlink" Target="http://www.modernizr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TML 5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iuseppe Attard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niversità di Pis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4572000" y="6308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s from Lachlan H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lement Implementa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ative support, but can be styled with CSS 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3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688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6 and 7 using simple createElement() h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ew Multimedia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"/>
          <p:cNvGrpSpPr/>
          <p:nvPr/>
        </p:nvGrpSpPr>
        <p:grpSpPr>
          <a:xfrm>
            <a:off x="4919760" y="1803240"/>
            <a:ext cx="3813120" cy="4322880"/>
            <a:chOff x="4919760" y="1803240"/>
            <a:chExt cx="3813120" cy="4322880"/>
          </a:xfrm>
        </p:grpSpPr>
        <p:pic>
          <p:nvPicPr>
            <p:cNvPr id="191" name="Picture 2" descr=""/>
            <p:cNvPicPr/>
            <p:nvPr/>
          </p:nvPicPr>
          <p:blipFill>
            <a:blip r:embed="rId1"/>
            <a:srcRect l="18625" t="17173" r="26861" b="758"/>
            <a:stretch/>
          </p:blipFill>
          <p:spPr>
            <a:xfrm>
              <a:off x="5062320" y="1945800"/>
              <a:ext cx="3527280" cy="40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3" descr=""/>
            <p:cNvPicPr/>
            <p:nvPr/>
          </p:nvPicPr>
          <p:blipFill>
            <a:blip r:embed="rId2"/>
            <a:stretch/>
          </p:blipFill>
          <p:spPr>
            <a:xfrm>
              <a:off x="4919760" y="1803240"/>
              <a:ext cx="3813120" cy="432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698480"/>
            <a:ext cx="410220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ve video support in brows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 APIs for providing custom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re dependence upon Fla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"/>
          <p:cNvGrpSpPr/>
          <p:nvPr/>
        </p:nvGrpSpPr>
        <p:grpSpPr>
          <a:xfrm>
            <a:off x="4919760" y="1803240"/>
            <a:ext cx="3813120" cy="4322880"/>
            <a:chOff x="4919760" y="1803240"/>
            <a:chExt cx="3813120" cy="4322880"/>
          </a:xfrm>
        </p:grpSpPr>
        <p:pic>
          <p:nvPicPr>
            <p:cNvPr id="196" name="Picture 2" descr=""/>
            <p:cNvPicPr/>
            <p:nvPr/>
          </p:nvPicPr>
          <p:blipFill>
            <a:blip r:embed="rId1"/>
            <a:srcRect l="18625" t="17173" r="26861" b="758"/>
            <a:stretch/>
          </p:blipFill>
          <p:spPr>
            <a:xfrm>
              <a:off x="5062320" y="1945800"/>
              <a:ext cx="3527280" cy="40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3" descr=""/>
            <p:cNvPicPr/>
            <p:nvPr/>
          </p:nvPicPr>
          <p:blipFill>
            <a:blip r:embed="rId2"/>
            <a:stretch/>
          </p:blipFill>
          <p:spPr>
            <a:xfrm>
              <a:off x="4919760" y="1803240"/>
              <a:ext cx="3813120" cy="432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Video Implementa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698480"/>
            <a:ext cx="4102200" cy="475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 (Ogg Theor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ari (All QuickTime forma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fox (Ogg Theor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1"/>
          <p:cNvGrpSpPr/>
          <p:nvPr/>
        </p:nvGrpSpPr>
        <p:grpSpPr>
          <a:xfrm>
            <a:off x="4938840" y="1803240"/>
            <a:ext cx="3776400" cy="4286520"/>
            <a:chOff x="4938840" y="1803240"/>
            <a:chExt cx="3776400" cy="4286520"/>
          </a:xfrm>
        </p:grpSpPr>
        <p:pic>
          <p:nvPicPr>
            <p:cNvPr id="201" name="Picture 2" descr=""/>
            <p:cNvPicPr/>
            <p:nvPr/>
          </p:nvPicPr>
          <p:blipFill>
            <a:blip r:embed="rId1"/>
            <a:srcRect l="2528" t="0" r="31642" b="0"/>
            <a:stretch/>
          </p:blipFill>
          <p:spPr>
            <a:xfrm>
              <a:off x="5081400" y="1945800"/>
              <a:ext cx="3490560" cy="397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3" descr=""/>
            <p:cNvPicPr/>
            <p:nvPr/>
          </p:nvPicPr>
          <p:blipFill>
            <a:blip r:embed="rId2"/>
            <a:stretch/>
          </p:blipFill>
          <p:spPr>
            <a:xfrm>
              <a:off x="4938840" y="1803240"/>
              <a:ext cx="3776400" cy="428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anva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698480"/>
            <a:ext cx="4102200" cy="482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ally draw graphics and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-oriented DOM AP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1"/>
          <p:cNvGrpSpPr/>
          <p:nvPr/>
        </p:nvGrpSpPr>
        <p:grpSpPr>
          <a:xfrm>
            <a:off x="4938840" y="1803240"/>
            <a:ext cx="3776400" cy="4286520"/>
            <a:chOff x="4938840" y="1803240"/>
            <a:chExt cx="3776400" cy="4286520"/>
          </a:xfrm>
        </p:grpSpPr>
        <p:pic>
          <p:nvPicPr>
            <p:cNvPr id="206" name="Picture 2" descr=""/>
            <p:cNvPicPr/>
            <p:nvPr/>
          </p:nvPicPr>
          <p:blipFill>
            <a:blip r:embed="rId1"/>
            <a:srcRect l="2528" t="0" r="31642" b="0"/>
            <a:stretch/>
          </p:blipFill>
          <p:spPr>
            <a:xfrm>
              <a:off x="5081400" y="1945800"/>
              <a:ext cx="3490560" cy="397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3" descr=""/>
            <p:cNvPicPr/>
            <p:nvPr/>
          </p:nvPicPr>
          <p:blipFill>
            <a:blip r:embed="rId2"/>
            <a:stretch/>
          </p:blipFill>
          <p:spPr>
            <a:xfrm>
              <a:off x="4938840" y="1803240"/>
              <a:ext cx="3776400" cy="428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anvas Implementa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4317840" cy="482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fo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ar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 6+ using ExplorerCanvas scri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  <a:ea typeface="ＭＳ Ｐゴシック"/>
              </a:rPr>
              <a:t>HTML5 in 1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10920" y="162828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started: 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0033"/>
                </a:solidFill>
                <a:uFillTx/>
                <a:latin typeface="Arial"/>
                <a:ea typeface="ＭＳ Ｐゴシック"/>
                <a:hlinkClick r:id="rId1"/>
              </a:rPr>
              <a:t>http://www.alistapart.com/articles/previewofhtml5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0033"/>
                </a:solidFill>
                <a:uFillTx/>
                <a:latin typeface="Arial"/>
                <a:ea typeface="ＭＳ Ｐゴシック"/>
                <a:hlinkClick r:id="rId2"/>
              </a:rPr>
              <a:t>http://diveintohtml5.org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TYPE:  &lt;!doctype html&gt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TAG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header&gt;  &lt;footer&gt;   &lt;nav&gt; &lt;article&gt; &lt;section&gt; &lt;aside&gt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ut IE 6,7--even IE 8!—doesn't support styling these tags.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DIO/VIDEO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audio&gt;  &lt;video&gt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ut then the codecs need to work, sometimes ogg, sometimes mp3…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ATUR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Storag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input types (great for mobile, see </a:t>
            </a:r>
            <a:r>
              <a:rPr b="0" lang="en-US" sz="1900" spc="-1" strike="noStrike" u="sng">
                <a:solidFill>
                  <a:srgbClr val="ff0033"/>
                </a:solidFill>
                <a:uFillTx/>
                <a:latin typeface="Arial"/>
                <a:ea typeface="ＭＳ Ｐゴシック"/>
                <a:hlinkClick r:id="rId3"/>
              </a:rPr>
              <a:t>http://diveintohtml5.org/forms.htm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rnizr </a:t>
            </a:r>
            <a:r>
              <a:rPr b="0" lang="en-US" sz="1900" spc="-1" strike="noStrike" u="sng">
                <a:solidFill>
                  <a:srgbClr val="ff0033"/>
                </a:solidFill>
                <a:uFillTx/>
                <a:latin typeface="Arial"/>
                <a:ea typeface="ＭＳ Ｐゴシック"/>
                <a:hlinkClick r:id="rId4"/>
              </a:rPr>
              <a:t>http://www.modernizr.co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ew Structure and Semantic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1"/>
          <p:cNvGrpSpPr/>
          <p:nvPr/>
        </p:nvGrpSpPr>
        <p:grpSpPr>
          <a:xfrm>
            <a:off x="857160" y="608040"/>
            <a:ext cx="7429680" cy="5661000"/>
            <a:chOff x="857160" y="608040"/>
            <a:chExt cx="7429680" cy="5661000"/>
          </a:xfrm>
        </p:grpSpPr>
        <p:pic>
          <p:nvPicPr>
            <p:cNvPr id="141" name="Picture 2" descr=""/>
            <p:cNvPicPr/>
            <p:nvPr/>
          </p:nvPicPr>
          <p:blipFill>
            <a:blip r:embed="rId1"/>
            <a:stretch/>
          </p:blipFill>
          <p:spPr>
            <a:xfrm>
              <a:off x="999720" y="750600"/>
              <a:ext cx="7144200" cy="53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" descr=""/>
            <p:cNvPicPr/>
            <p:nvPr/>
          </p:nvPicPr>
          <p:blipFill>
            <a:blip r:embed="rId2"/>
            <a:stretch/>
          </p:blipFill>
          <p:spPr>
            <a:xfrm>
              <a:off x="857160" y="608040"/>
              <a:ext cx="7429680" cy="5661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"/>
          <p:cNvGrpSpPr/>
          <p:nvPr/>
        </p:nvGrpSpPr>
        <p:grpSpPr>
          <a:xfrm>
            <a:off x="857160" y="608040"/>
            <a:ext cx="7429680" cy="5661000"/>
            <a:chOff x="857160" y="608040"/>
            <a:chExt cx="7429680" cy="5661000"/>
          </a:xfrm>
        </p:grpSpPr>
        <p:pic>
          <p:nvPicPr>
            <p:cNvPr id="144" name="Picture 2" descr=""/>
            <p:cNvPicPr/>
            <p:nvPr/>
          </p:nvPicPr>
          <p:blipFill>
            <a:blip r:embed="rId1"/>
            <a:stretch/>
          </p:blipFill>
          <p:spPr>
            <a:xfrm>
              <a:off x="999720" y="750600"/>
              <a:ext cx="7144200" cy="53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" descr=""/>
            <p:cNvPicPr/>
            <p:nvPr/>
          </p:nvPicPr>
          <p:blipFill>
            <a:blip r:embed="rId2"/>
            <a:stretch/>
          </p:blipFill>
          <p:spPr>
            <a:xfrm>
              <a:off x="857160" y="608040"/>
              <a:ext cx="7429680" cy="566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Rectangle 4"/>
          <p:cNvSpPr/>
          <p:nvPr/>
        </p:nvSpPr>
        <p:spPr>
          <a:xfrm>
            <a:off x="1044720" y="803160"/>
            <a:ext cx="7037280" cy="706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  <a:effectLst>
            <a:outerShdw dist="0" dir="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044720" y="1554120"/>
            <a:ext cx="7037280" cy="28584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  <a:effectLst>
            <a:outerShdw dist="0" dir="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044720" y="1893960"/>
            <a:ext cx="5268600" cy="3838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  <a:effectLst>
            <a:outerShdw dist="0" dir="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6392880" y="1893960"/>
            <a:ext cx="1689120" cy="3838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  <a:effectLst>
            <a:outerShdw dist="0" dir="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044720" y="5776920"/>
            <a:ext cx="7037280" cy="2952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  <a:effectLst>
            <a:outerShdw dist="0" dir="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755640" y="-50760"/>
            <a:ext cx="8298000" cy="65548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1"/>
          <p:cNvGrpSpPr/>
          <p:nvPr/>
        </p:nvGrpSpPr>
        <p:grpSpPr>
          <a:xfrm>
            <a:off x="1103400" y="1008000"/>
            <a:ext cx="7429320" cy="5661000"/>
            <a:chOff x="1103400" y="1008000"/>
            <a:chExt cx="7429320" cy="5661000"/>
          </a:xfrm>
        </p:grpSpPr>
        <p:pic>
          <p:nvPicPr>
            <p:cNvPr id="153" name="Picture 2" descr=""/>
            <p:cNvPicPr/>
            <p:nvPr/>
          </p:nvPicPr>
          <p:blipFill>
            <a:blip r:embed="rId1"/>
            <a:stretch/>
          </p:blipFill>
          <p:spPr>
            <a:xfrm>
              <a:off x="1245960" y="1150560"/>
              <a:ext cx="7143840" cy="53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3" descr=""/>
            <p:cNvPicPr/>
            <p:nvPr/>
          </p:nvPicPr>
          <p:blipFill>
            <a:blip r:embed="rId2"/>
            <a:stretch/>
          </p:blipFill>
          <p:spPr>
            <a:xfrm>
              <a:off x="1103400" y="1008000"/>
              <a:ext cx="7429320" cy="566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Rectangle 4"/>
          <p:cNvSpPr/>
          <p:nvPr/>
        </p:nvSpPr>
        <p:spPr>
          <a:xfrm>
            <a:off x="1044720" y="803160"/>
            <a:ext cx="7037280" cy="706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  <a:effectLst>
            <a:outerShdw dist="0" dir="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044720" y="1554120"/>
            <a:ext cx="7037280" cy="28584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  <a:effectLst>
            <a:outerShdw dist="0" dir="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044720" y="1893960"/>
            <a:ext cx="5268600" cy="3838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  <a:effectLst>
            <a:outerShdw dist="0" dir="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392880" y="1893960"/>
            <a:ext cx="1689120" cy="3838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  <a:effectLst>
            <a:outerShdw dist="0" dir="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1044720" y="5776920"/>
            <a:ext cx="7037280" cy="2952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  <a:effectLst>
            <a:outerShdw dist="0" dir="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3751200" y="97848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19"/>
                </a:solidFill>
                <a:latin typeface="Arial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4023720" y="1488240"/>
            <a:ext cx="63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19"/>
                </a:solidFill>
                <a:latin typeface="Arial"/>
              </a:rPr>
              <a:t>&lt;na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6544440" y="4006080"/>
            <a:ext cx="81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19"/>
                </a:solidFill>
                <a:latin typeface="Arial"/>
              </a:rPr>
              <a:t>&lt;asi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950560" y="2005560"/>
            <a:ext cx="87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19"/>
                </a:solidFill>
                <a:latin typeface="Arial"/>
              </a:rPr>
              <a:t>&lt;artic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6510240" y="5774400"/>
            <a:ext cx="8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19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1"/>
          <p:cNvGrpSpPr/>
          <p:nvPr/>
        </p:nvGrpSpPr>
        <p:grpSpPr>
          <a:xfrm>
            <a:off x="857160" y="608040"/>
            <a:ext cx="7429680" cy="5661000"/>
            <a:chOff x="857160" y="608040"/>
            <a:chExt cx="7429680" cy="5661000"/>
          </a:xfrm>
        </p:grpSpPr>
        <p:pic>
          <p:nvPicPr>
            <p:cNvPr id="166" name="Picture 2" descr=""/>
            <p:cNvPicPr/>
            <p:nvPr/>
          </p:nvPicPr>
          <p:blipFill>
            <a:blip r:embed="rId1"/>
            <a:stretch/>
          </p:blipFill>
          <p:spPr>
            <a:xfrm>
              <a:off x="999720" y="750600"/>
              <a:ext cx="7144200" cy="53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3" descr=""/>
            <p:cNvPicPr/>
            <p:nvPr/>
          </p:nvPicPr>
          <p:blipFill>
            <a:blip r:embed="rId2"/>
            <a:stretch/>
          </p:blipFill>
          <p:spPr>
            <a:xfrm>
              <a:off x="857160" y="608040"/>
              <a:ext cx="7429680" cy="566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Rectangle 4"/>
          <p:cNvSpPr/>
          <p:nvPr/>
        </p:nvSpPr>
        <p:spPr>
          <a:xfrm>
            <a:off x="3134160" y="1335960"/>
            <a:ext cx="7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19"/>
                </a:solidFill>
                <a:latin typeface="Arial"/>
              </a:rPr>
              <a:t>&lt;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164240" y="3291480"/>
            <a:ext cx="83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19"/>
                </a:solidFill>
                <a:latin typeface="Arial"/>
              </a:rPr>
              <a:t>&lt;figur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063800" y="507744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19"/>
                </a:solidFill>
                <a:latin typeface="Arial"/>
              </a:rPr>
              <a:t>&lt;legen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6473160" y="5077440"/>
            <a:ext cx="8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19"/>
                </a:solidFill>
                <a:latin typeface="Arial"/>
              </a:rPr>
              <a:t>&lt;me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1224000" y="1322280"/>
            <a:ext cx="1874880" cy="3384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  <a:effectLst>
            <a:outerShdw dist="0" dir="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2705040" y="1768320"/>
            <a:ext cx="3714840" cy="366084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  <a:effectLst>
            <a:outerShdw dist="0" dir="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768760" y="5062680"/>
            <a:ext cx="3589200" cy="30456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  <a:effectLst>
            <a:outerShdw dist="0" dir="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5929200" y="5535720"/>
            <a:ext cx="1946520" cy="35856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  <a:effectLst>
            <a:outerShdw dist="0" dir="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1"/>
          <p:cNvGrpSpPr/>
          <p:nvPr/>
        </p:nvGrpSpPr>
        <p:grpSpPr>
          <a:xfrm>
            <a:off x="857160" y="295200"/>
            <a:ext cx="7429680" cy="6276960"/>
            <a:chOff x="857160" y="295200"/>
            <a:chExt cx="7429680" cy="6276960"/>
          </a:xfrm>
        </p:grpSpPr>
        <p:pic>
          <p:nvPicPr>
            <p:cNvPr id="177" name="Picture 2" descr=""/>
            <p:cNvPicPr/>
            <p:nvPr/>
          </p:nvPicPr>
          <p:blipFill>
            <a:blip r:embed="rId1"/>
            <a:stretch/>
          </p:blipFill>
          <p:spPr>
            <a:xfrm>
              <a:off x="999720" y="437760"/>
              <a:ext cx="7144200" cy="597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3" descr=""/>
            <p:cNvPicPr/>
            <p:nvPr/>
          </p:nvPicPr>
          <p:blipFill>
            <a:blip r:embed="rId2"/>
            <a:stretch/>
          </p:blipFill>
          <p:spPr>
            <a:xfrm>
              <a:off x="857160" y="295200"/>
              <a:ext cx="7429680" cy="627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Rectangle 4"/>
          <p:cNvSpPr/>
          <p:nvPr/>
        </p:nvSpPr>
        <p:spPr>
          <a:xfrm>
            <a:off x="1044720" y="500040"/>
            <a:ext cx="7037280" cy="59022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  <a:effectLst>
            <a:outerShdw dist="0" dir="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089000" y="2535120"/>
            <a:ext cx="6948360" cy="38131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  <a:effectLst>
            <a:outerShdw dist="0" dir="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133640" y="4483080"/>
            <a:ext cx="6858000" cy="181296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  <a:effectLst>
            <a:outerShdw dist="0" dir="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374880" y="550080"/>
            <a:ext cx="99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19"/>
                </a:solidFill>
                <a:latin typeface="Arial"/>
              </a:rPr>
              <a:t>&lt;se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3719520" y="550080"/>
            <a:ext cx="52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19"/>
                </a:solidFill>
                <a:latin typeface="Arial"/>
              </a:rPr>
              <a:t>&lt;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719520" y="2604240"/>
            <a:ext cx="52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19"/>
                </a:solidFill>
                <a:latin typeface="Arial"/>
              </a:rPr>
              <a:t>&lt;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3719520" y="4514760"/>
            <a:ext cx="52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1919"/>
                </a:solidFill>
                <a:latin typeface="Arial"/>
              </a:rPr>
              <a:t>&lt;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2:05:58Z</dcterms:created>
  <dc:creator>Giuseppe Attardi</dc:creator>
  <dc:description/>
  <dc:language>en-US</dc:language>
  <cp:lastModifiedBy>Giuseppe Attardi</cp:lastModifiedBy>
  <dcterms:modified xsi:type="dcterms:W3CDTF">2012-12-17T14:42:10Z</dcterms:modified>
  <cp:revision>11</cp:revision>
  <dc:subject/>
  <dc:title>HTML 5</dc:title>
</cp:coreProperties>
</file>